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4D4FE-ABAA-4940-B089-774745E53F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3FF4A-356A-495C-A6D9-15C9DAE7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ght religious freedom rather than simply pro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7094C-1AD5-4D0C-9125-D998DA62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g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757E4-9F16-423E-87BB-396FA0B3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and in the New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0827B-C5F7-4440-81F4-DFE9DAD6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7CA18-EA7C-4941-A40A-588CEEC7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ists, not Church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purpose, not profit purp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BFEBA-4037-4DB4-ABA9-D64E3B55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0D7-B6CC-45C1-BDAA-4D94CCAC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C34-DFF9-44F3-AF4E-E140210E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C4C-5A6E-475A-9E12-42BB5EFB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78F-362B-4A90-94EC-FDB5D8F0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46C-5395-4FF0-A0EA-0C711D7C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4AA-CDCF-47B3-A19A-3B95D5F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8F0-FF7B-4E0B-B5D3-C6FE22F3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9DC-3A8F-4D4B-AC6F-44C016A7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507-D523-4D29-B792-F9A820A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778-3330-47CB-80B7-216AD0F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869-2EC7-46F6-8773-0944486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A05-C427-4651-BF9A-D5E5208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7CAF1-6E54-4B4C-99C4-24C7FE934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EEC41-049C-49CB-A68A-58DD3B80D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139040" y="990720"/>
            <a:ext cx="704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w: (write in spiral noteboo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at Roano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John Smith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the Pilgrims w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447920" y="762120"/>
            <a:ext cx="601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ick Wri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re the settlers of Plymouth different from the settlers of Virgin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 in your composition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38080" y="76212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the Plymouth colonists govern themsel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yflower Compact differed from the House of Burgesses down in Jamestown, Virgi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and equal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concept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elf-ru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meri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38080" y="609480"/>
            <a:ext cx="739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Plymouth succ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landed in 16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soit wanted an alliance with the Englis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soit sent Squanto to help the English grow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ilgrims gave “Thanksgiving” the next f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lony developed fishing and lo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massasoit-lg-001_002_1_29.jpg"/>
          <p:cNvPicPr/>
          <p:nvPr/>
        </p:nvPicPr>
        <p:blipFill>
          <a:blip r:embed="rId1"/>
          <a:stretch/>
        </p:blipFill>
        <p:spPr>
          <a:xfrm>
            <a:off x="704880" y="533520"/>
            <a:ext cx="7867800" cy="5244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082960" y="5803920"/>
            <a:ext cx="49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 discu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_squanto_Squantoteaching.png"/>
          <p:cNvPicPr/>
          <p:nvPr/>
        </p:nvPicPr>
        <p:blipFill>
          <a:blip r:embed="rId1"/>
          <a:stretch/>
        </p:blipFill>
        <p:spPr>
          <a:xfrm>
            <a:off x="2362320" y="457200"/>
            <a:ext cx="4502160" cy="386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523880" y="43243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Squanto and his chief, Massasoit, every last Pilgrim would have di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first_thanksgiving_brownscomb.jpg"/>
          <p:cNvPicPr/>
          <p:nvPr/>
        </p:nvPicPr>
        <p:blipFill>
          <a:blip r:embed="rId1"/>
          <a:stretch/>
        </p:blipFill>
        <p:spPr>
          <a:xfrm>
            <a:off x="914400" y="304920"/>
            <a:ext cx="7454880" cy="4933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80880" y="5238720"/>
            <a:ext cx="83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ainting of 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anksgiving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ets pushed to the back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838080" y="7621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gini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lig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para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soit/Squa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066680" y="1066680"/>
            <a:ext cx="7010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o settled Jamest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glish founded Jamestown in 160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ginia Company of London was 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rcant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to trade with Native Americans and 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752480" y="692280"/>
            <a:ext cx="678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is a charter?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o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ter =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t of rights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y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from Latin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er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mea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nhabit, cultivate, guar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glish colonie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abite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New World and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arde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economic interests of 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ic_Jamestown-ships-NOAA.jpg"/>
          <p:cNvPicPr/>
          <p:nvPr/>
        </p:nvPicPr>
        <p:blipFill>
          <a:blip r:embed="rId1"/>
          <a:stretch/>
        </p:blipFill>
        <p:spPr>
          <a:xfrm>
            <a:off x="838080" y="457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219320" y="541008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s of ships the Jamestown colonists would hav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838080" y="762120"/>
            <a:ext cx="7696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Jamestown succ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 was the first ________ English colony in the New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lonists did not want to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tribe saved the coloni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Smith =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not, eat no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 = success for Jamestown (John Rolf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066680" y="762120"/>
            <a:ext cx="7010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the people of Jamestown gov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ve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gislature shared power with the Govern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ed to the King of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from Magna Carta in 12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1219320" y="533520"/>
            <a:ext cx="685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slavery start in the British colonies of the New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tch ship arrived in 161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first, the Africans were indentured servants—they could work their way out of the agre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everything changed in the late 160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66680" y="990720"/>
            <a:ext cx="716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ree things that made the Pilgrims the core of the new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rience. How did they end up playing a role that would make Americ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places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04920" y="30492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id the colonists at Plymouth differ from the colonists at Jamest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paratist Pilgrims wanted to “separate” from the Church of England. The Jamestown colonists were “followers” of the Church of Eng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paratist Pilgrims were trying to reach Jamestown (for safety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d weather changed dest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30:00Z</dcterms:created>
  <dc:creator>Thomas Hagerty</dc:creator>
  <dc:description/>
  <dc:language>en-US</dc:language>
  <cp:lastModifiedBy>Thomas Hagerty</cp:lastModifiedBy>
  <cp:lastPrinted>2011-09-29T11:30:36Z</cp:lastPrinted>
  <dcterms:modified xsi:type="dcterms:W3CDTF">2014-10-09T19:06:35Z</dcterms:modified>
  <cp:revision>117</cp:revision>
  <dc:subject/>
  <dc:title>Slide 1</dc:title>
</cp:coreProperties>
</file>